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B37-680A-4D75-B3A0-FD4276A9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3D7-8B33-4ED6-8001-A7399AC4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761-966F-42FE-BD27-41D8C030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1FB6-612E-42BF-869D-2D0D19AC6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255E-9F11-443C-A29E-5DB7ED2D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CE75-6297-4FEE-B77F-E3E09ABD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D9A5-5D45-473D-9A83-7BD78A95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0445-7537-4F9C-BD56-D2790743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D205-D756-45B9-8F49-8E0F9D95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1DCC-CAC4-4926-9AFD-CD6569CB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9029-E87C-4E5B-BBB7-5EE72C87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691-3CE2-445C-969F-ABB1D1C1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4F78-481F-4189-8AD6-8D70195F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13FA-DEEF-4613-BC4E-C211F86E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1A86-2DE8-4C54-94B0-AA7B40D5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B881-4B48-49A9-A701-17FC3945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C280-BA4D-4DCA-8D2B-C67BB6D0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4B20C-D9ED-40C5-8DC4-2BA2945A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AD825-5E44-4452-9D90-445A7051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DACA9-1E4D-4E0E-967B-B17D0565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6E288-60AA-42F6-A420-0C296D13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08DE9-B1A9-4A39-99C1-B9B7E12F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CAA-FCEE-427E-A1E8-86FA25FC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9455B-082D-4A5E-BC1B-901050C1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47A4F-20BD-425C-BFAD-647FBAE0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281B-E8FC-46BC-B397-66817C2D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D1EF9-5765-4976-9BE1-12A9DCF8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16601-EBC1-4628-8734-D40E4B36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7DFCF-A049-47C6-AB55-A58CFC98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C1E59-3123-416D-99B5-E9F96540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A94-8893-44F6-A3E8-4D7F4685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00B-2E52-4272-A26D-8EAC9050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BFE8-82E4-4818-BAA0-A6517483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73E-6897-470C-9B68-AEA2346C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713-B69E-4A17-BE93-CC72131F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1525-071E-40FA-BDF1-9275B781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91CC-C156-4267-95EC-C537DEE625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CAB1-B2E8-4895-B6BE-933521F50FC5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2C59-5D4E-43A9-9406-6C2521F78B4E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Rectangle 2" descr=""/>
          <p:cNvPicPr/>
          <p:nvPr/>
        </p:nvPicPr>
        <p:blipFill>
          <a:blip r:embed="rId1"/>
          <a:stretch/>
        </p:blipFill>
        <p:spPr>
          <a:xfrm>
            <a:off x="622440" y="2603520"/>
            <a:ext cx="7723080" cy="20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380880" y="838080"/>
            <a:ext cx="8458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-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mperforate anus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ue to failure of rupture of anal membrane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56386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l stenosi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dorsal deviation of the cloacal septum as it grows caudally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 anal ca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l agenesi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terminates blindly. It is associated with a fistula between rectum and urinary bladder , urethra or vagi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752480" y="3429000"/>
            <a:ext cx="6096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Title 1" descr=""/>
          <p:cNvPicPr/>
          <p:nvPr/>
        </p:nvPicPr>
        <p:blipFill>
          <a:blip r:embed="rId1"/>
          <a:stretch/>
        </p:blipFill>
        <p:spPr>
          <a:xfrm>
            <a:off x="231840" y="1450800"/>
            <a:ext cx="8528040" cy="27561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"/>
          <p:cNvSpPr/>
          <p:nvPr/>
        </p:nvSpPr>
        <p:spPr>
          <a:xfrm>
            <a:off x="304920" y="441972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Brush Script MT"/>
              </a:rPr>
              <a:t>Prof. Dr. Shawky Tay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Development of rectum and upper ½ of anal can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882440"/>
            <a:ext cx="82296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Origin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ndoderm of hindgut</a:t>
            </a:r>
            <a:r>
              <a:rPr b="0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mucosa &amp; gland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planchnic secondary mesoderm</a:t>
            </a:r>
            <a:r>
              <a:rPr b="0" lang="en-US" sz="3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submucosa &amp; musculosa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31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en-US" sz="39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238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oaca ( dilated caudal part of hindgut) is divided by cloacal septum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 A dorsal part ( anorectal cana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 A ventral part ( primitive urogenital sinu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C:\Documents and Settings\Mazen\Desktop\9.jpg"/>
          <p:cNvPicPr/>
          <p:nvPr/>
        </p:nvPicPr>
        <p:blipFill>
          <a:blip r:embed="rId1"/>
          <a:stretch/>
        </p:blipFill>
        <p:spPr>
          <a:xfrm>
            <a:off x="4343400" y="1447920"/>
            <a:ext cx="457200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04760" y="1522440"/>
            <a:ext cx="89344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240" y="990720"/>
            <a:ext cx="4267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e anorectal canal gives the rectum and upper 1/2 of anal canal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e rectum will be convoluted due to unequal growth of its walls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Documents and Settings\Mazen\Desktop\9.jpg"/>
          <p:cNvPicPr/>
          <p:nvPr/>
        </p:nvPicPr>
        <p:blipFill>
          <a:blip r:embed="rId1"/>
          <a:stretch/>
        </p:blipFill>
        <p:spPr>
          <a:xfrm>
            <a:off x="4419720" y="838080"/>
            <a:ext cx="449568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Development of lower half of anal can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rig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toder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ratified columnar epithel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lanchnic secondary mesoderm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bmucosa, musculosa and anal sphin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upper ½ of anal canal is endodermal and its lower half is ectoderma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000000"/>
                </a:solidFill>
                <a:uFillTx/>
                <a:latin typeface="Arial"/>
              </a:rPr>
              <a:t>Development of Anal Cana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60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enchyme around anal membrane  proliferates producing elevations of the surface ectoderm call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nal hil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al membrane is now located at the bottom of an ectodermal depression called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octodium ( primitive anal canal)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wer ½ of anal ca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al membrane ruptures leaving remnants as anal valves and the two halves of anal canal are continueous with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C:\Documents and Settings\Mazen\Desktop\10.jpg"/>
          <p:cNvPicPr/>
          <p:nvPr/>
        </p:nvPicPr>
        <p:blipFill>
          <a:blip r:embed="rId1"/>
          <a:stretch/>
        </p:blipFill>
        <p:spPr>
          <a:xfrm>
            <a:off x="4876920" y="1600200"/>
            <a:ext cx="4267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742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Congenital anomalies</a:t>
            </a:r>
            <a:r>
              <a:rPr b="1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5235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Fistulae formation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tovaginal, rectouretheral, rectovesical, anouretheral and anovaginal fistula) due to incomplete development of cloacal sep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ectal atresia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either abnormal canalization or defect in blood supply causing focal atre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Mazen\Desktop\11.jpg"/>
          <p:cNvPicPr/>
          <p:nvPr/>
        </p:nvPicPr>
        <p:blipFill>
          <a:blip r:embed="rId1"/>
          <a:stretch/>
        </p:blipFill>
        <p:spPr>
          <a:xfrm>
            <a:off x="533520" y="3733920"/>
            <a:ext cx="82454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961920" y="95400"/>
            <a:ext cx="722016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09:02:41Z</dcterms:created>
  <dc:creator>Layan</dc:creator>
  <dc:description/>
  <dc:language>en-US</dc:language>
  <cp:lastModifiedBy>Safa Osman</cp:lastModifiedBy>
  <dcterms:modified xsi:type="dcterms:W3CDTF">2016-02-01T12:33:49Z</dcterms:modified>
  <cp:revision>31</cp:revision>
  <dc:subject/>
  <dc:title>Development of duodenum</dc:title>
</cp:coreProperties>
</file>